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531-7FF8-4630-8869-F897CC36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E36-56A7-4159-BBEC-3B18AA05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AF8-DD36-4F5D-9290-AE16A39D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6E5-C1BA-4588-9D37-65CF09B8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757-10C5-403A-9BA9-77698462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D6B-C1FD-4920-9B91-16A6B92D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322-581B-4F75-A8D2-F3570A82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AFD-5F0F-45FA-9BC9-213F2A64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B1D-92A0-4C7F-BCE1-E0A8BBF5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0B2-E639-4DED-926F-801FD32A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07D-69EF-4FA5-8F16-E4919DB7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D0F-8E29-4FDE-B7B4-720119AF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918B-6E6A-471A-89FF-F875E0D1B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mathbord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952880" y="3276720"/>
            <a:ext cx="3200400" cy="2977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atios and Propor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ubPieSlice"/>
          <p:cNvSpPr/>
          <p:nvPr/>
        </p:nvSpPr>
        <p:spPr>
          <a:xfrm>
            <a:off x="914400" y="3962520"/>
            <a:ext cx="2514600" cy="2361960"/>
          </a:xfrm>
          <a:custGeom>
            <a:avLst/>
            <a:gdLst>
              <a:gd name="textAreaLeft" fmla="*/ 367920 w 2514600"/>
              <a:gd name="textAreaRight" fmla="*/ 2146680 w 2514600"/>
              <a:gd name="textAreaTop" fmla="*/ 345600 h 2361960"/>
              <a:gd name="textAreaBottom" fmla="*/ 2016360 h 2361960"/>
            </a:gdLst>
            <a:ahLst/>
            <a:rect l="textAreaLeft" t="textAreaTop" r="textAreaRight" b="textAreaBottom"/>
            <a:pathLst>
              <a:path w="21600" h="21600">
                <a:moveTo>
                  <a:pt x="10799" y="0"/>
                </a:moveTo>
                <a:cubicBezTo>
                  <a:pt x="4834" y="0"/>
                  <a:pt x="0" y="48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MCj02325710000[1]"/>
          <p:cNvPicPr/>
          <p:nvPr/>
        </p:nvPicPr>
        <p:blipFill>
          <a:blip r:embed="rId2"/>
          <a:stretch/>
        </p:blipFill>
        <p:spPr>
          <a:xfrm rot="510600">
            <a:off x="2362320" y="3580920"/>
            <a:ext cx="20574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a propor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1600200" y="2895480"/>
                <a:ext cx="16002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Text Box 6"/>
          <p:cNvSpPr/>
          <p:nvPr/>
        </p:nvSpPr>
        <p:spPr>
          <a:xfrm>
            <a:off x="838080" y="1828800"/>
            <a:ext cx="61722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ross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581280" y="35053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410080" y="33526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 =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867280" y="4343400"/>
            <a:ext cx="1219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H="1" flipV="1">
            <a:off x="6019560" y="3962520"/>
            <a:ext cx="228600" cy="38088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6553080" y="3962520"/>
            <a:ext cx="304920" cy="38088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5562720" y="5334120"/>
            <a:ext cx="17524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 flipH="1" flipV="1">
            <a:off x="5638680" y="3962520"/>
            <a:ext cx="152640" cy="1371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 flipV="1">
            <a:off x="7162560" y="3962520"/>
            <a:ext cx="75960" cy="1371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0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bout an ex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1143000" y="1600200"/>
                <a:ext cx="12952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Text Box 6"/>
          <p:cNvSpPr/>
          <p:nvPr/>
        </p:nvSpPr>
        <p:spPr>
          <a:xfrm>
            <a:off x="28195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219320" y="3276720"/>
            <a:ext cx="198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(6) =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 = 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oss Pro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2819520" y="3581280"/>
            <a:ext cx="3045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bout another exam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1143000" y="1676520"/>
                <a:ext cx="137160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6"/>
          <p:cNvSpPr/>
          <p:nvPr/>
        </p:nvSpPr>
        <p:spPr>
          <a:xfrm>
            <a:off x="274320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for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295280" y="3200400"/>
            <a:ext cx="2362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 = 2(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2209680" y="4419720"/>
                <a:ext cx="397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Text Box 10"/>
          <p:cNvSpPr/>
          <p:nvPr/>
        </p:nvSpPr>
        <p:spPr>
          <a:xfrm>
            <a:off x="3505320" y="3276720"/>
            <a:ext cx="26668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oss Pro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1"/>
          <p:cNvSpPr/>
          <p:nvPr/>
        </p:nvSpPr>
        <p:spPr>
          <a:xfrm flipH="1">
            <a:off x="3200040" y="350532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4114800" y="4191120"/>
            <a:ext cx="4419720" cy="1904760"/>
          </a:xfrm>
          <a:prstGeom prst="wedgeEllipseCallout">
            <a:avLst>
              <a:gd name="adj1" fmla="val -50717"/>
              <a:gd name="adj2" fmla="val -4608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 you solve it using Reciprocal Property? If yes, would it be easi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solve this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932040" y="1676520"/>
                <a:ext cx="179532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Text Box 5"/>
          <p:cNvSpPr/>
          <p:nvPr/>
        </p:nvSpPr>
        <p:spPr>
          <a:xfrm>
            <a:off x="274320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for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990720" y="3200400"/>
            <a:ext cx="3809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 = (x-1)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 = 3x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 = 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809880" y="3276720"/>
            <a:ext cx="28195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oss Pro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H="1">
            <a:off x="3123720" y="3429000"/>
            <a:ext cx="6858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828800" y="4952880"/>
                <a:ext cx="476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AutoShape 11"/>
          <p:cNvSpPr/>
          <p:nvPr/>
        </p:nvSpPr>
        <p:spPr>
          <a:xfrm>
            <a:off x="4114800" y="4191120"/>
            <a:ext cx="4267080" cy="1295280"/>
          </a:xfrm>
          <a:prstGeom prst="wedgeEllipseCallout">
            <a:avLst>
              <a:gd name="adj1" fmla="val -50745"/>
              <a:gd name="adj2" fmla="val -4424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gain, Reciprocal Prope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1325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you know enough about properties, let’s solve the Mysterious problem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685800" y="4876920"/>
                <a:ext cx="35053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ga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iles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a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5181480" y="4876920"/>
                <a:ext cx="11430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Text Box 5"/>
          <p:cNvSpPr/>
          <p:nvPr/>
        </p:nvSpPr>
        <p:spPr>
          <a:xfrm>
            <a:off x="685800" y="152388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09480" y="16765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car ge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 miles/gal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many gallons of gas do you need to commute to school every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MPj04385130000[1]"/>
          <p:cNvPicPr/>
          <p:nvPr/>
        </p:nvPicPr>
        <p:blipFill>
          <a:blip r:embed="rId1"/>
          <a:stretch/>
        </p:blipFill>
        <p:spPr>
          <a:xfrm>
            <a:off x="762120" y="2971800"/>
            <a:ext cx="1066680" cy="98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MPj04394220000[1]"/>
          <p:cNvPicPr/>
          <p:nvPr/>
        </p:nvPicPr>
        <p:blipFill>
          <a:blip r:embed="rId2"/>
          <a:stretch/>
        </p:blipFill>
        <p:spPr>
          <a:xfrm>
            <a:off x="6477120" y="2895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59" name="Line 12"/>
          <p:cNvSpPr/>
          <p:nvPr/>
        </p:nvSpPr>
        <p:spPr>
          <a:xfrm>
            <a:off x="1905120" y="3733920"/>
            <a:ext cx="426708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1904760" y="3429000"/>
            <a:ext cx="426708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2819520" y="3657600"/>
            <a:ext cx="2286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 to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289548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914400" y="44197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x be the number gallons we need for a d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9"/>
          <p:cNvSpPr/>
          <p:nvPr/>
        </p:nvSpPr>
        <p:spPr>
          <a:xfrm>
            <a:off x="4267080" y="51814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 flipV="1">
            <a:off x="1371600" y="49528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429000" y="49525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 flipV="1">
            <a:off x="1295280" y="5410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 flipV="1">
            <a:off x="3200400" y="5486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6"/>
          <p:cNvSpPr/>
          <p:nvPr/>
        </p:nvSpPr>
        <p:spPr>
          <a:xfrm>
            <a:off x="6629400" y="4572000"/>
            <a:ext cx="1905120" cy="838080"/>
          </a:xfrm>
          <a:prstGeom prst="wedgeRoundRectCallout">
            <a:avLst>
              <a:gd name="adj1" fmla="val -38583"/>
              <a:gd name="adj2" fmla="val 7727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solve it from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7"/>
          <p:cNvSpPr/>
          <p:nvPr/>
        </p:nvSpPr>
        <p:spPr>
          <a:xfrm rot="8710800">
            <a:off x="4800240" y="586656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2971800" y="6248520"/>
            <a:ext cx="22096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        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9"/>
              <p:cNvSpPr txBox="1"/>
              <p:nvPr/>
            </p:nvSpPr>
            <p:spPr>
              <a:xfrm>
                <a:off x="3809880" y="6019920"/>
                <a:ext cx="304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04920" y="22096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you use up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/3 gal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day. How many gallons would you use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MPj04385130000[1]"/>
          <p:cNvPicPr/>
          <p:nvPr/>
        </p:nvPicPr>
        <p:blipFill>
          <a:blip r:embed="rId1"/>
          <a:stretch/>
        </p:blipFill>
        <p:spPr>
          <a:xfrm>
            <a:off x="838080" y="762120"/>
            <a:ext cx="1067040" cy="984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MPj04394220000[1]"/>
          <p:cNvPicPr/>
          <p:nvPr/>
        </p:nvPicPr>
        <p:blipFill>
          <a:blip r:embed="rId2"/>
          <a:stretch/>
        </p:blipFill>
        <p:spPr>
          <a:xfrm>
            <a:off x="6553080" y="685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Line 10"/>
          <p:cNvSpPr/>
          <p:nvPr/>
        </p:nvSpPr>
        <p:spPr>
          <a:xfrm>
            <a:off x="1981080" y="1523880"/>
            <a:ext cx="426744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1981080" y="1219320"/>
            <a:ext cx="426744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895480" y="1447920"/>
            <a:ext cx="2286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 to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971800" y="914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33520" y="335268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 be the number of gallons we need for a we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762120" y="3821040"/>
                <a:ext cx="27432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a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al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day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8"/>
              <p:cNvSpPr txBox="1"/>
              <p:nvPr/>
            </p:nvSpPr>
            <p:spPr>
              <a:xfrm>
                <a:off x="5334120" y="3886200"/>
                <a:ext cx="12952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1"/>
              <p:cNvSpPr txBox="1"/>
              <p:nvPr/>
            </p:nvSpPr>
            <p:spPr>
              <a:xfrm>
                <a:off x="1143000" y="5334120"/>
                <a:ext cx="1000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4"/>
              <p:cNvSpPr txBox="1"/>
              <p:nvPr/>
            </p:nvSpPr>
            <p:spPr>
              <a:xfrm>
                <a:off x="3276720" y="5715000"/>
                <a:ext cx="17524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8"/>
              <p:cNvSpPr txBox="1"/>
              <p:nvPr/>
            </p:nvSpPr>
            <p:spPr>
              <a:xfrm>
                <a:off x="6248520" y="5334120"/>
                <a:ext cx="11062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Line 29"/>
          <p:cNvSpPr/>
          <p:nvPr/>
        </p:nvSpPr>
        <p:spPr>
          <a:xfrm>
            <a:off x="1600200" y="38862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0"/>
          <p:cNvSpPr/>
          <p:nvPr/>
        </p:nvSpPr>
        <p:spPr>
          <a:xfrm>
            <a:off x="2895480" y="38098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1"/>
          <p:cNvSpPr/>
          <p:nvPr/>
        </p:nvSpPr>
        <p:spPr>
          <a:xfrm>
            <a:off x="1371600" y="44197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2"/>
          <p:cNvSpPr/>
          <p:nvPr/>
        </p:nvSpPr>
        <p:spPr>
          <a:xfrm>
            <a:off x="2895480" y="441972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3"/>
          <p:cNvSpPr/>
          <p:nvPr/>
        </p:nvSpPr>
        <p:spPr>
          <a:xfrm>
            <a:off x="4038480" y="42670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4"/>
          <p:cNvSpPr/>
          <p:nvPr/>
        </p:nvSpPr>
        <p:spPr>
          <a:xfrm>
            <a:off x="5257800" y="58672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5"/>
          <p:cNvSpPr/>
          <p:nvPr/>
        </p:nvSpPr>
        <p:spPr>
          <a:xfrm>
            <a:off x="2362320" y="586728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6"/>
          <p:cNvSpPr/>
          <p:nvPr/>
        </p:nvSpPr>
        <p:spPr>
          <a:xfrm>
            <a:off x="7238880" y="5715000"/>
            <a:ext cx="8384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8"/>
          <p:cNvSpPr/>
          <p:nvPr/>
        </p:nvSpPr>
        <p:spPr>
          <a:xfrm>
            <a:off x="3124080" y="4724280"/>
            <a:ext cx="1905120" cy="762120"/>
          </a:xfrm>
          <a:prstGeom prst="wedgeRoundRectCallout">
            <a:avLst>
              <a:gd name="adj1" fmla="val -47333"/>
              <a:gd name="adj2" fmla="val 8708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roperty is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685800" y="914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you use up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/3 gall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week (which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67 gall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Consider if the price of gas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.69 dollars/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much would it cost for a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762120" y="23623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s be the sum of cost for a we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MPj04385130000[1]"/>
          <p:cNvPicPr/>
          <p:nvPr/>
        </p:nvPicPr>
        <p:blipFill>
          <a:blip r:embed="rId1"/>
          <a:stretch/>
        </p:blipFill>
        <p:spPr>
          <a:xfrm>
            <a:off x="990720" y="5334120"/>
            <a:ext cx="1066680" cy="984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MPj04394220000[1]"/>
          <p:cNvPicPr/>
          <p:nvPr/>
        </p:nvPicPr>
        <p:blipFill>
          <a:blip r:embed="rId2"/>
          <a:stretch/>
        </p:blipFill>
        <p:spPr>
          <a:xfrm>
            <a:off x="6705720" y="5257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99" name="Line 11"/>
          <p:cNvSpPr/>
          <p:nvPr/>
        </p:nvSpPr>
        <p:spPr>
          <a:xfrm>
            <a:off x="2133720" y="6095880"/>
            <a:ext cx="426708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 flipH="1">
            <a:off x="2133360" y="5791320"/>
            <a:ext cx="426708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48120" y="6019920"/>
            <a:ext cx="2286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 to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124080" y="5486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1054080" y="3056040"/>
                <a:ext cx="34527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dollar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gallo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llars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gallon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7"/>
              <p:cNvSpPr txBox="1"/>
              <p:nvPr/>
            </p:nvSpPr>
            <p:spPr>
              <a:xfrm>
                <a:off x="5638680" y="3063960"/>
                <a:ext cx="18288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Text Box 20"/>
          <p:cNvSpPr/>
          <p:nvPr/>
        </p:nvSpPr>
        <p:spPr>
          <a:xfrm>
            <a:off x="91440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9(1.67) = 1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4419720" y="4343400"/>
            <a:ext cx="28191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6.16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4724280" y="33526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3"/>
          <p:cNvSpPr/>
          <p:nvPr/>
        </p:nvSpPr>
        <p:spPr>
          <a:xfrm>
            <a:off x="3429000" y="44197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what do you thi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MPj04385130000[1]"/>
          <p:cNvPicPr/>
          <p:nvPr/>
        </p:nvPicPr>
        <p:blipFill>
          <a:blip r:embed="rId1"/>
          <a:stretch/>
        </p:blipFill>
        <p:spPr>
          <a:xfrm>
            <a:off x="914400" y="1676520"/>
            <a:ext cx="1066680" cy="984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MPj04394220000[1]"/>
          <p:cNvPicPr/>
          <p:nvPr/>
        </p:nvPicPr>
        <p:blipFill>
          <a:blip r:embed="rId2"/>
          <a:stretch/>
        </p:blipFill>
        <p:spPr>
          <a:xfrm>
            <a:off x="4343400" y="1676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2" name="Line 6"/>
          <p:cNvSpPr/>
          <p:nvPr/>
        </p:nvSpPr>
        <p:spPr>
          <a:xfrm>
            <a:off x="2057400" y="2438280"/>
            <a:ext cx="205740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2057040" y="2133720"/>
            <a:ext cx="198108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5812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914400" y="388620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pay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 bucks a we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st to get to school!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What about weekend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ravel twice as much on weekends, say drive 10 miles to the Mall and 10 miles back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ow many gallons do you need now? How much would it cost totally?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How much would it cost for a month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1" descr="MPj04385130000[1]"/>
          <p:cNvPicPr/>
          <p:nvPr/>
        </p:nvPicPr>
        <p:blipFill>
          <a:blip r:embed="rId3"/>
          <a:stretch/>
        </p:blipFill>
        <p:spPr>
          <a:xfrm>
            <a:off x="914400" y="2743200"/>
            <a:ext cx="1066680" cy="984240"/>
          </a:xfrm>
          <a:prstGeom prst="rect">
            <a:avLst/>
          </a:prstGeom>
          <a:ln w="0">
            <a:noFill/>
          </a:ln>
        </p:spPr>
      </p:pic>
      <p:sp>
        <p:nvSpPr>
          <p:cNvPr id="217" name="Line 12"/>
          <p:cNvSpPr/>
          <p:nvPr/>
        </p:nvSpPr>
        <p:spPr>
          <a:xfrm>
            <a:off x="2057400" y="3429000"/>
            <a:ext cx="464832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2057400" y="3200400"/>
            <a:ext cx="4648320" cy="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5" descr="factory-outlet-mall"/>
          <p:cNvPicPr/>
          <p:nvPr/>
        </p:nvPicPr>
        <p:blipFill>
          <a:blip r:embed="rId4"/>
          <a:stretch/>
        </p:blipFill>
        <p:spPr>
          <a:xfrm>
            <a:off x="6858000" y="2209680"/>
            <a:ext cx="1752480" cy="17128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6"/>
          <p:cNvSpPr/>
          <p:nvPr/>
        </p:nvSpPr>
        <p:spPr>
          <a:xfrm>
            <a:off x="2514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990720" y="6172200"/>
            <a:ext cx="777240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Think proportionally! . . . It’s all about propor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5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8" descr="good_luck_comment_graphic_02"/>
          <p:cNvPicPr/>
          <p:nvPr/>
        </p:nvPicPr>
        <p:blipFill>
          <a:blip r:embed="rId1"/>
          <a:stretch/>
        </p:blipFill>
        <p:spPr>
          <a:xfrm rot="1297800">
            <a:off x="5313240" y="3239640"/>
            <a:ext cx="3333960" cy="3333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609480" y="6094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t of Assignment is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ge  #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will start the next session of class in 15 minutes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Rati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Ratio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implif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r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propor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propor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propor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sterious Probl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Rat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tio is a comparison of two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s can be written in three different way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76720" y="4114800"/>
            <a:ext cx="5410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cause a ratio is a fraction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 can not b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438280" y="3733920"/>
                <a:ext cx="3812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8"/>
          <p:cNvSpPr/>
          <p:nvPr/>
        </p:nvSpPr>
        <p:spPr>
          <a:xfrm>
            <a:off x="1371600" y="5410080"/>
            <a:ext cx="59436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tios are expresse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ples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 flipH="1">
            <a:off x="2971440" y="4267080"/>
            <a:ext cx="3049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Use Rati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rat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boys and girls in the class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 to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048120" y="4114800"/>
            <a:ext cx="25146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62520" y="3809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2819520" y="2286000"/>
            <a:ext cx="3809880" cy="2438280"/>
          </a:xfrm>
          <a:prstGeom prst="wedgeRoundRectCallout">
            <a:avLst>
              <a:gd name="adj1" fmla="val -57750"/>
              <a:gd name="adj2" fmla="val -4531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means, f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12 boys you can find 11 girls to mat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ould be just 12 boys, 11 gir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ould be 24 boys, 22 gir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ould be 120 boys, 110 girls…a hug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9"/>
          <p:cNvSpPr/>
          <p:nvPr/>
        </p:nvSpPr>
        <p:spPr>
          <a:xfrm>
            <a:off x="457200" y="4419720"/>
            <a:ext cx="3352680" cy="1981080"/>
          </a:xfrm>
          <a:prstGeom prst="wedgeRoundRectCallout">
            <a:avLst>
              <a:gd name="adj1" fmla="val 615"/>
              <a:gd name="adj2" fmla="val -7932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ratio if the rectangle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cm long and 2cm wi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ll 4 to 1, because for every 4cm, you can find 1cm to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28600" y="2895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at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ength and width of this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 to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247320" y="4876920"/>
            <a:ext cx="88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at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ats and dogs at my hom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3200400" y="2819520"/>
            <a:ext cx="3657600" cy="1523880"/>
          </a:xfrm>
          <a:prstGeom prst="wedgeRoundRectCallout">
            <a:avLst>
              <a:gd name="adj1" fmla="val 38717"/>
              <a:gd name="adj2" fmla="val 90106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dogs and cats do I have? We don’t know, all we know is if they’d start a fight, each dog has to fight 2 c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implify rati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4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s we saw on last slide were all simplified. How was it don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3124080" y="3352680"/>
                <a:ext cx="152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Text Box 5"/>
          <p:cNvSpPr/>
          <p:nvPr/>
        </p:nvSpPr>
        <p:spPr>
          <a:xfrm>
            <a:off x="457200" y="297180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33520" y="3124080"/>
            <a:ext cx="3809880" cy="2494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s can be expre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raction for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lows us to do math on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648320" y="27432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72000" y="1676520"/>
            <a:ext cx="4343400" cy="460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io of boys and girls in the class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io of the rectangl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io of cats and dogs in my house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5715000" y="2057400"/>
                <a:ext cx="393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3200400" y="3505320"/>
                <a:ext cx="5014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7924680" y="3048120"/>
                <a:ext cx="354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5791320" y="5105520"/>
                <a:ext cx="353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implify rati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 tell you I hav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2 cats and 6 do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Can you simplify the ratio of cats and dogs to 2 to 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143000" y="2819520"/>
                <a:ext cx="785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Text Box 21"/>
          <p:cNvSpPr/>
          <p:nvPr/>
        </p:nvSpPr>
        <p:spPr>
          <a:xfrm>
            <a:off x="23623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2971800" y="2971800"/>
                <a:ext cx="120024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Text Box 21"/>
          <p:cNvSpPr/>
          <p:nvPr/>
        </p:nvSpPr>
        <p:spPr>
          <a:xfrm>
            <a:off x="4419720" y="3200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5105520" y="2743200"/>
                <a:ext cx="5889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AutoShape 17"/>
          <p:cNvSpPr/>
          <p:nvPr/>
        </p:nvSpPr>
        <p:spPr>
          <a:xfrm>
            <a:off x="3657600" y="4495680"/>
            <a:ext cx="3657600" cy="1447920"/>
          </a:xfrm>
          <a:prstGeom prst="wedgeRoundRectCallout">
            <a:avLst>
              <a:gd name="adj1" fmla="val -41754"/>
              <a:gd name="adj2" fmla="val -699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both numerator and denominator by thei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reatest Common Fa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20"/>
          <p:cNvCxnSpPr/>
          <p:nvPr/>
        </p:nvCxnSpPr>
        <p:spPr>
          <a:xfrm flipV="1">
            <a:off x="5694120" y="2590560"/>
            <a:ext cx="1316160" cy="915120"/>
          </a:xfrm>
          <a:prstGeom prst="curvedConnector5">
            <a:avLst>
              <a:gd name="adj1" fmla="val 109794"/>
              <a:gd name="adj2" fmla="val 49980"/>
              <a:gd name="adj3" fmla="val 109794"/>
            </a:avLst>
          </a:prstGeom>
          <a:ln w="3492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447920" y="1752480"/>
                <a:ext cx="574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22"/>
              <p:cNvSpPr txBox="1"/>
              <p:nvPr/>
            </p:nvSpPr>
            <p:spPr>
              <a:xfrm>
                <a:off x="1523880" y="4876920"/>
                <a:ext cx="5749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3"/>
              <p:cNvSpPr txBox="1"/>
              <p:nvPr/>
            </p:nvSpPr>
            <p:spPr>
              <a:xfrm>
                <a:off x="1447920" y="3352680"/>
                <a:ext cx="707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19"/>
          <p:cNvSpPr/>
          <p:nvPr/>
        </p:nvSpPr>
        <p:spPr>
          <a:xfrm>
            <a:off x="243828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24382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2362320" y="5029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38"/>
              <p:cNvSpPr txBox="1"/>
              <p:nvPr/>
            </p:nvSpPr>
            <p:spPr>
              <a:xfrm>
                <a:off x="3200400" y="3352680"/>
                <a:ext cx="3780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0"/>
              <p:cNvSpPr txBox="1"/>
              <p:nvPr/>
            </p:nvSpPr>
            <p:spPr>
              <a:xfrm>
                <a:off x="3124080" y="1676520"/>
                <a:ext cx="486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1"/>
              <p:cNvSpPr txBox="1"/>
              <p:nvPr/>
            </p:nvSpPr>
            <p:spPr>
              <a:xfrm>
                <a:off x="5172120" y="2128680"/>
                <a:ext cx="28728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2"/>
              <p:cNvSpPr txBox="1"/>
              <p:nvPr/>
            </p:nvSpPr>
            <p:spPr>
              <a:xfrm>
                <a:off x="4800600" y="1828800"/>
                <a:ext cx="541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Text Box 43"/>
          <p:cNvSpPr/>
          <p:nvPr/>
        </p:nvSpPr>
        <p:spPr>
          <a:xfrm>
            <a:off x="563868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4"/>
              <p:cNvSpPr txBox="1"/>
              <p:nvPr/>
            </p:nvSpPr>
            <p:spPr>
              <a:xfrm>
                <a:off x="6400800" y="1676520"/>
                <a:ext cx="750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5"/>
              <p:cNvSpPr txBox="1"/>
              <p:nvPr/>
            </p:nvSpPr>
            <p:spPr>
              <a:xfrm>
                <a:off x="4876920" y="3200400"/>
                <a:ext cx="574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Text Box 47"/>
          <p:cNvSpPr/>
          <p:nvPr/>
        </p:nvSpPr>
        <p:spPr>
          <a:xfrm>
            <a:off x="5638680" y="3352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8"/>
              <p:cNvSpPr txBox="1"/>
              <p:nvPr/>
            </p:nvSpPr>
            <p:spPr>
              <a:xfrm>
                <a:off x="6553080" y="3124080"/>
                <a:ext cx="4129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0"/>
              <p:cNvSpPr txBox="1"/>
              <p:nvPr/>
            </p:nvSpPr>
            <p:spPr>
              <a:xfrm>
                <a:off x="3048120" y="4648320"/>
                <a:ext cx="4856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, on to proportio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1295280" y="2362320"/>
                <a:ext cx="14479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Text Box 4"/>
          <p:cNvSpPr/>
          <p:nvPr/>
        </p:nvSpPr>
        <p:spPr>
          <a:xfrm>
            <a:off x="533520" y="1676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propor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62520" y="2590920"/>
            <a:ext cx="43434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portion is an equation that equates two r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 flipH="1">
            <a:off x="2971800" y="3048120"/>
            <a:ext cx="9907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62120" y="4114800"/>
            <a:ext cx="5333760" cy="862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io of dogs and cats w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io of dogs and cats now i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6/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838080" y="5334120"/>
            <a:ext cx="4419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e have a propor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2"/>
              <p:cNvSpPr txBox="1"/>
              <p:nvPr/>
            </p:nvSpPr>
            <p:spPr>
              <a:xfrm>
                <a:off x="4521240" y="5105520"/>
                <a:ext cx="933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a propor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1349280" y="1600200"/>
                <a:ext cx="2025720" cy="20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Line 7"/>
          <p:cNvSpPr/>
          <p:nvPr/>
        </p:nvSpPr>
        <p:spPr>
          <a:xfrm>
            <a:off x="1905120" y="2133720"/>
            <a:ext cx="838080" cy="99036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V="1">
            <a:off x="1981080" y="2209680"/>
            <a:ext cx="762120" cy="9144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 rot="7452000">
            <a:off x="742320" y="3981240"/>
            <a:ext cx="1181160" cy="380880"/>
          </a:xfrm>
          <a:prstGeom prst="rightArrow">
            <a:avLst>
              <a:gd name="adj1" fmla="val 36454"/>
              <a:gd name="adj2" fmla="val 547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04920" y="46483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x6=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 rot="2901600">
            <a:off x="2990520" y="3867120"/>
            <a:ext cx="1104840" cy="381240"/>
          </a:xfrm>
          <a:prstGeom prst="rightArrow">
            <a:avLst>
              <a:gd name="adj1" fmla="val 36454"/>
              <a:gd name="adj2" fmla="val 511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276720" y="4495680"/>
            <a:ext cx="236196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3x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=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600200" y="5562720"/>
            <a:ext cx="26668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x4 = 2x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380880" y="571500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3886200" y="3200400"/>
            <a:ext cx="48006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ross Produ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8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9" dur="250" autoRev="1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0:31:17Z</dcterms:created>
  <dc:creator>Jeremiah McNichols</dc:creator>
  <dc:description/>
  <dc:language>en-US</dc:language>
  <cp:lastModifiedBy>Owner</cp:lastModifiedBy>
  <dcterms:modified xsi:type="dcterms:W3CDTF">2010-10-31T22:07:40Z</dcterms:modified>
  <cp:revision>23</cp:revision>
  <dc:subject/>
  <dc:title>Ratio and Proportions</dc:title>
</cp:coreProperties>
</file>